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B0B3-59DB-4F33-8EF8-EFF55C66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9BE-C601-4284-87C7-3C4DCCE9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0E5B-33C2-49FB-9F2E-425F75F1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E244-6FC3-4A75-B7A2-32D3D0AA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CC2-1761-4409-ACB0-CED55BFF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1D8-2842-4DBB-BD10-10F663F2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504-3463-4DAC-AD54-B2D7259C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2BE-9F47-45E1-8B93-9AB000E3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35E-8454-4D05-B7C2-D2552046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334F-E6A5-46F1-A97F-B454DA5F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A90-E9D1-4866-8F58-66AC3F21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CE1-0A09-4279-8E7C-31FEEC3A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DBFF-9D76-40A4-9402-83C1477D8C5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google.com.au/imgres?imgurl=http://alex.edfac.usyd.edu.au/BLP/websites/gold/pics/walking.jpg&amp;imgrefurl=http://alex.edfac.usyd.edu.au/BLP/websites/gold/life.htm&amp;usg=__L2iZbXPZpGTLex5E_X9qmrfjo-k=&amp;h=308&amp;w=400&amp;sz=24&amp;hl=en&amp;start=1&amp;zoom=1&amp;um=1&amp;itbs=1&amp;tbnid=LkWdfqNFrQ68cM:&amp;tbnh=95&amp;tbnw=124&amp;prev=/images%3Fq%3Ddiggers%2Bon%2Bthe%2Bgoldfields%2Bclothing%26um%3D1%26hl%3Den%26safe%3Dactive%26tbs%3Disch:1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google.com.au/imgres?imgurl=http://www.australia-trips.info/Destinations/Vic/Ballarat/ballarat-center.jpg&amp;imgrefurl=http://www.australia-trips.info/Destinations/Vic/Ballarat/Ballarat.html&amp;usg=__oSDy9kXYX0O_qFMaWU6UT0z-XG4=&amp;h=300&amp;w=400&amp;sz=40&amp;hl=en&amp;start=3&amp;zoom=1&amp;um=1&amp;itbs=1&amp;tbnid=x2Ui_Y_SmnvxMM:&amp;tbnh=93&amp;tbnw=124&amp;prev=/images%3Fq%3Dballarat%26um%3D1%26hl%3Den%26safe%3Dactive%26tbs%3Disch: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cultureandrecreation.gov.au/" TargetMode="External"/><Relationship Id="rId3" Type="http://schemas.openxmlformats.org/officeDocument/2006/relationships/hyperlink" Target="http://www.sbs.com.au/gold/" TargetMode="External"/><Relationship Id="rId4" Type="http://schemas.openxmlformats.org/officeDocument/2006/relationships/hyperlink" Target="http://www.wikianswers.com.au/" TargetMode="External"/><Relationship Id="rId5" Type="http://schemas.openxmlformats.org/officeDocument/2006/relationships/hyperlink" Target="http://www.californiangoldrush.com.au/" TargetMode="External"/><Relationship Id="rId6" Type="http://schemas.openxmlformats.org/officeDocument/2006/relationships/hyperlink" Target="http://www.answer.com.au/" TargetMode="External"/><Relationship Id="rId7" Type="http://schemas.openxmlformats.org/officeDocument/2006/relationships/hyperlink" Target="http://www.lifeonthegoldfields.com.au/" TargetMode="External"/><Relationship Id="rId8" Type="http://schemas.openxmlformats.org/officeDocument/2006/relationships/hyperlink" Target="http://www.google.com.au/" TargetMode="External"/><Relationship Id="rId9" Type="http://schemas.openxmlformats.org/officeDocument/2006/relationships/hyperlink" Target="http://www.ballerat.com.au/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oogle.com.au/imgres?imgurl=http://www.discovernortherncalifornia.com/images/old-sac-gold-rush-days-tent-city.jpg&amp;imgrefurl=http://www.discovernortherncalifornia.com/old-sacramento.html&amp;usg=__lDSuefeYG5nsXC-l3hfHmdq54aY=&amp;h=261&amp;w=320&amp;sz=26&amp;hl=en&amp;start=1&amp;zoom=1&amp;um=1&amp;itbs=1&amp;tbnid=RdjMy16G5FsyzM:&amp;tbnh=96&amp;tbnw=118&amp;prev=/images%3Fq%3Dgold%2Brush%2Btents%26um%3D1%26hl%3Den%26safe%3Dactive%26sa%3DN%26tbs%3Disch: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oogle.com.au/imgres?imgurl=http://www.australia-trips.info/Destinations/Vic/Ballarat/ballarat-center.jpg&amp;imgrefurl=http://www.australia-trips.info/Destinations/Vic/Ballarat/Ballarat.html&amp;usg=__oSDy9kXYX0O_qFMaWU6UT0z-XG4=&amp;h=300&amp;w=400&amp;sz=40&amp;hl=en&amp;start=3&amp;zoom=1&amp;um=1&amp;itbs=1&amp;tbnid=x2Ui_Y_SmnvxMM:&amp;tbnh=93&amp;tbnw=124&amp;prev=/images%3Fq%3Dballarat%26um%3D1%26hl%3Den%26safe%3Dactive%26tbs%3Disch: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google.com.au/imgres?imgurl=http://www.solarnavigator.net/images/windlass_boat_layout_vertical_capstan_windlass.jpg&amp;imgrefurl=http://www.solarnavigator.net/windlass.htm&amp;usg=__6qfbJZ1Ue9GNl_FsHrL0_0qHLLQ=&amp;h=657&amp;w=573&amp;sz=17&amp;hl=en&amp;start=1&amp;zoom=1&amp;um=1&amp;itbs=1&amp;tbnid=EHxYyr2crhFaOM:&amp;tbnh=138&amp;tbnw=120&amp;prev=/images%3Fq%3Dwindlass%26um%3D1%26hl%3Den%26safe%3Dactive%26tbs%3Disch:1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dig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orian Giu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The Eureka Flag was based on the constellation of the Southern Cross."/>
          <p:cNvPicPr/>
          <p:nvPr/>
        </p:nvPicPr>
        <p:blipFill>
          <a:blip r:embed="rId2"/>
          <a:stretch/>
        </p:blipFill>
        <p:spPr>
          <a:xfrm rot="20582400">
            <a:off x="394920" y="692280"/>
            <a:ext cx="3311640" cy="2201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68360" y="342900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cultureandrecreation.gov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 diggers wear in the gold rush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h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nnel over sh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ther b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bbage 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1989000"/>
            <a:ext cx="4176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long did the diggers stay on the gold fiel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gers stayed on the gold fields for one whole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2924280"/>
            <a:ext cx="59770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ultureandrecreation.gov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bs.com.au/gold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wikianswers.com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californiangoldrush.com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answer.com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lifeonthegoldfields.com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google.com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ballerat.com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diggers l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diggers basis first they  get out of there tents eat breakfast then they would go to dig for the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11640" y="2924280"/>
            <a:ext cx="363528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e did gold diggers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gers lived In Ballarat they stayed in tents for a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2924280"/>
            <a:ext cx="59770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diggers 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gers on the gold fields ate mutton, flour and coffee to dr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ols did they 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ols that the used were bucket, cradle, pick axe and a wind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e did they come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gers came from Europe, china, Ireland, but mostly from Vict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292428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balerat.com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diggers get wa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gers got there share of water from the  river or  creek they had to boil the water because all the little germs were in the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wind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indlass is a tool that bring gold up from the ground instead of digging for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306864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s of gold are there?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nug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nug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sp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inum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ling 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ling silver is a loved gold all over the world it is a whitish silvery cou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017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23:43:27Z</dcterms:created>
  <dc:creator>dorian_giusti</dc:creator>
  <dc:description/>
  <dc:language>en-US</dc:language>
  <cp:lastModifiedBy>dorian_giusti</cp:lastModifiedBy>
  <dcterms:modified xsi:type="dcterms:W3CDTF">2010-09-06T23:14:10Z</dcterms:modified>
  <cp:revision>7</cp:revision>
  <dc:subject/>
  <dc:title>diggers</dc:title>
</cp:coreProperties>
</file>